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2599988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60720" y="767880"/>
            <a:ext cx="278280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B1A5-699B-4D2E-91D7-FAB25FFE3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60720" y="768240"/>
            <a:ext cx="2782800" cy="38372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s , C and D are n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BAA4-0A67-491F-9DDA-B51FDAF835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60E-033C-483B-BFF6-768D097F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728424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D0C-D9F0-4C14-8DEC-1014AE5B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689-21AE-4BDB-95C4-135E1A50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500-45F8-43D5-9AFE-E67E2428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6E7-AB84-464D-89A6-4FF05358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69B-386E-443B-8F35-25B8718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5AA-5B18-4553-8275-7DF9A71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7A7-F521-416C-8EDB-4272B299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4720"/>
            <a:ext cx="8229600" cy="97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196-4831-483D-995C-0AD35FD6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45D-CE06-4BB0-83EB-5EC11BA1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464-CF7B-4652-BF62-3761CBA8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056-AD6F-431D-A62B-A587200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1476080"/>
            <a:ext cx="2133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1476080"/>
            <a:ext cx="28958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1476080"/>
            <a:ext cx="2133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3D37-FCF1-4264-9422-09EE8E78D2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028000" y="3168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5440320" y="1014480"/>
            <a:ext cx="3735360" cy="2435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50920" y="4017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97360" y="4017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62080" y="42973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429080" y="4361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Graphical user interface&#10;&#10;Description automatically generated with medium confidence"/>
          <p:cNvPicPr/>
          <p:nvPr/>
        </p:nvPicPr>
        <p:blipFill>
          <a:blip r:embed="rId2"/>
          <a:stretch/>
        </p:blipFill>
        <p:spPr>
          <a:xfrm>
            <a:off x="108000" y="777960"/>
            <a:ext cx="5476680" cy="29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A picture containing icon&#10;&#10;Description automatically generated"/>
          <p:cNvPicPr/>
          <p:nvPr/>
        </p:nvPicPr>
        <p:blipFill>
          <a:blip r:embed="rId3"/>
          <a:stretch/>
        </p:blipFill>
        <p:spPr>
          <a:xfrm>
            <a:off x="857160" y="4297320"/>
            <a:ext cx="3571920" cy="2505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A picture containing icon&#10;&#10;Description automatically generated"/>
          <p:cNvPicPr/>
          <p:nvPr/>
        </p:nvPicPr>
        <p:blipFill>
          <a:blip r:embed="rId4"/>
          <a:stretch/>
        </p:blipFill>
        <p:spPr>
          <a:xfrm>
            <a:off x="5033880" y="4294080"/>
            <a:ext cx="4049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9T16:55:49Z</dcterms:created>
  <dc:creator>Andrew</dc:creator>
  <dc:description/>
  <dc:language>en-US</dc:language>
  <cp:lastModifiedBy>Andrew Cobb</cp:lastModifiedBy>
  <cp:lastPrinted>2021-10-13T12:23:20Z</cp:lastPrinted>
  <dcterms:modified xsi:type="dcterms:W3CDTF">2022-06-10T10:13:09Z</dcterms:modified>
  <cp:revision>547</cp:revision>
  <dc:subject/>
  <dc:title>Slide 1</dc:title>
</cp:coreProperties>
</file>