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25999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60720" y="767880"/>
            <a:ext cx="27828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661F-FAC9-4696-8A3A-C07A351F0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60720" y="768240"/>
            <a:ext cx="2782800" cy="3837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s , C and D are n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9B83-C5EB-4F32-A08F-A0109C7BD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BF1-9280-4B37-AD2C-E6555549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E87-6A35-465E-8137-97FC05B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2BB-3272-4311-A646-D717797D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428-B14F-4D83-8ACC-F0FD4601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6E1-7E14-4DA9-A97C-6F10F9B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CF5-934E-4CA8-B6EA-0B998CDC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5E8-4F86-4EE8-A86C-7D11EED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66F-CD6C-4EF2-BBEB-0E4C7D2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4720"/>
            <a:ext cx="8229600" cy="97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401-8690-4CF2-90E1-6F594C8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3C2-4A59-481E-9FC7-5A1ACF4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40B-7B75-42B2-A4C5-180DFC1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D10-CD87-4EAD-A5F1-2F359623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1476080"/>
            <a:ext cx="2895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94A-477D-4F8E-8347-1CE659CF1F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028000" y="3168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180"/>
          <p:cNvSpPr/>
          <p:nvPr/>
        </p:nvSpPr>
        <p:spPr>
          <a:xfrm>
            <a:off x="201600" y="34797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046240" y="3992400"/>
            <a:ext cx="5118120" cy="3399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180"/>
          <p:cNvSpPr/>
          <p:nvPr/>
        </p:nvSpPr>
        <p:spPr>
          <a:xfrm>
            <a:off x="201600" y="71802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A picture containing text, worm, outdoor object&#10;&#10;Description automatically generated"/>
          <p:cNvPicPr/>
          <p:nvPr/>
        </p:nvPicPr>
        <p:blipFill>
          <a:blip r:embed="rId2"/>
          <a:stretch/>
        </p:blipFill>
        <p:spPr>
          <a:xfrm>
            <a:off x="417600" y="7780320"/>
            <a:ext cx="8375400" cy="1841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180"/>
          <p:cNvSpPr/>
          <p:nvPr/>
        </p:nvSpPr>
        <p:spPr>
          <a:xfrm>
            <a:off x="900000" y="100044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ctin+PML etop 3.mp4" descr=""/>
          <p:cNvPicPr/>
          <p:nvPr/>
        </p:nvPicPr>
        <p:blipFill>
          <a:blip r:embed="rId3"/>
          <a:stretch/>
        </p:blipFill>
        <p:spPr>
          <a:xfrm>
            <a:off x="3276720" y="10022040"/>
            <a:ext cx="3006720" cy="2255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7180"/>
          <p:cNvSpPr/>
          <p:nvPr/>
        </p:nvSpPr>
        <p:spPr>
          <a:xfrm>
            <a:off x="201600" y="4017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666720" y="461880"/>
            <a:ext cx="7932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2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16:55:49Z</dcterms:created>
  <dc:creator>Andrew</dc:creator>
  <dc:description/>
  <dc:language>en-US</dc:language>
  <cp:lastModifiedBy>Cobb, Andrew</cp:lastModifiedBy>
  <cp:lastPrinted>2021-10-13T12:23:20Z</cp:lastPrinted>
  <dcterms:modified xsi:type="dcterms:W3CDTF">2022-11-07T13:24:05Z</dcterms:modified>
  <cp:revision>551</cp:revision>
  <dc:subject/>
  <dc:title>Slide 1</dc:title>
</cp:coreProperties>
</file>