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25999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60720" y="767880"/>
            <a:ext cx="27828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489-AC88-479B-B151-408C2B3BF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60720" y="768240"/>
            <a:ext cx="2782800" cy="38372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s , C and D are n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4E6-414F-439C-B28E-2BF5AD35C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65F-844B-4C02-B4CC-A43DB32D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12C-121A-40C7-9C23-DC11CEE4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BF9-7074-4904-9C09-348A1543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762-C23A-4E02-9BDE-C8C80F84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5BD-FC9B-49BF-B714-9A15620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334-A4AB-4AA5-AC6E-71F7AED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53C-F3C8-4448-B55B-99521353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7E3-267B-4AE4-A0E9-C00DA7AE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4720"/>
            <a:ext cx="8229600" cy="97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17E-9CCA-40EE-8F08-BFB53714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D3B-B6C0-450D-858F-E18EEFC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62C-6ED8-4E66-A872-7F90529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98D-7F9F-4229-9066-E8698C2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476080"/>
            <a:ext cx="289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550-BA06-4C6E-BE3A-9E77D5030E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028000" y="3168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-6480" y="284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27080" y="31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A picture containing text, star, outdoor object&#10;&#10;Description automatically generated"/>
          <p:cNvPicPr/>
          <p:nvPr/>
        </p:nvPicPr>
        <p:blipFill>
          <a:blip r:embed="rId1"/>
          <a:stretch/>
        </p:blipFill>
        <p:spPr>
          <a:xfrm>
            <a:off x="282600" y="911160"/>
            <a:ext cx="8578800" cy="1876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 picture containing logo&#10;&#10;Description automatically generated"/>
          <p:cNvPicPr/>
          <p:nvPr/>
        </p:nvPicPr>
        <p:blipFill>
          <a:blip r:embed="rId2"/>
          <a:stretch/>
        </p:blipFill>
        <p:spPr>
          <a:xfrm>
            <a:off x="1500120" y="3879720"/>
            <a:ext cx="3359160" cy="285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Logo&#10;&#10;Description automatically generated"/>
          <p:cNvPicPr/>
          <p:nvPr/>
        </p:nvPicPr>
        <p:blipFill>
          <a:blip r:embed="rId3"/>
          <a:stretch/>
        </p:blipFill>
        <p:spPr>
          <a:xfrm>
            <a:off x="4572000" y="3780000"/>
            <a:ext cx="33624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6:55:49Z</dcterms:created>
  <dc:creator>Andrew</dc:creator>
  <dc:description/>
  <dc:language>en-US</dc:language>
  <cp:lastModifiedBy>Andrew Cobb</cp:lastModifiedBy>
  <cp:lastPrinted>2021-10-13T12:23:20Z</cp:lastPrinted>
  <dcterms:modified xsi:type="dcterms:W3CDTF">2022-06-10T10:14:03Z</dcterms:modified>
  <cp:revision>547</cp:revision>
  <dc:subject/>
  <dc:title>Slide 1</dc:title>
</cp:coreProperties>
</file>