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12599988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60720" y="767880"/>
            <a:ext cx="278280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476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4606-332F-48A1-9F31-C0E51D9983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2160720" y="768240"/>
            <a:ext cx="2782800" cy="383724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476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s , C and D are n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4022640" y="9720360"/>
            <a:ext cx="3079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BCA6-35D5-406A-8AF1-F079858ACD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4D51-7175-4410-A6A5-92F9E6CB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940120"/>
            <a:ext cx="822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7284240"/>
            <a:ext cx="822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BA18-C9FA-44F8-A32C-26633E27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94012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94012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728424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728424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AE64-0B77-4403-BC5F-3945C06F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940120"/>
            <a:ext cx="264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940120"/>
            <a:ext cx="264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940120"/>
            <a:ext cx="264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7284240"/>
            <a:ext cx="264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7284240"/>
            <a:ext cx="264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7284240"/>
            <a:ext cx="264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796D-ADE7-4A83-AD89-7FBDF1CC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940120"/>
            <a:ext cx="8229600" cy="83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0153-19DB-4914-8888-23163918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940120"/>
            <a:ext cx="8229600" cy="83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5422-CF8A-4D84-ABCF-A23A80C9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940120"/>
            <a:ext cx="4015800" cy="83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940120"/>
            <a:ext cx="4015800" cy="83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8781-BE47-489C-8DCC-42904FC0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F510-8A4A-4D94-A539-E5ABB45D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4720"/>
            <a:ext cx="8229600" cy="97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F800-43F7-4B42-A147-70FC92E1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94012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940120"/>
            <a:ext cx="4015800" cy="83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728424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C63A-1930-45F5-BF6D-100AF3DC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940120"/>
            <a:ext cx="4015800" cy="83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94012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728424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9DA3-E66C-420F-BCB5-9C1FA4CD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94012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940120"/>
            <a:ext cx="40158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7284240"/>
            <a:ext cx="822960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B99A-78F0-45D2-BD50-7E4882C9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940120"/>
            <a:ext cx="8229600" cy="83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11476080"/>
            <a:ext cx="2133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1476080"/>
            <a:ext cx="28958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11476080"/>
            <a:ext cx="2133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8AAF-3A86-4B99-8B33-A8A288F66B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8028000" y="3168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180"/>
          <p:cNvSpPr/>
          <p:nvPr/>
        </p:nvSpPr>
        <p:spPr>
          <a:xfrm>
            <a:off x="252360" y="2840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180"/>
          <p:cNvSpPr/>
          <p:nvPr/>
        </p:nvSpPr>
        <p:spPr>
          <a:xfrm>
            <a:off x="399960" y="49910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180"/>
          <p:cNvSpPr/>
          <p:nvPr/>
        </p:nvSpPr>
        <p:spPr>
          <a:xfrm>
            <a:off x="4332240" y="50338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A picture containing graphical user interface&#10;&#10;Description automatically generated"/>
          <p:cNvPicPr/>
          <p:nvPr/>
        </p:nvPicPr>
        <p:blipFill>
          <a:blip r:embed="rId1"/>
          <a:stretch/>
        </p:blipFill>
        <p:spPr>
          <a:xfrm>
            <a:off x="920880" y="522360"/>
            <a:ext cx="4190760" cy="404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A picture containing graphical user interface&#10;&#10;Description automatically generated"/>
          <p:cNvPicPr/>
          <p:nvPr/>
        </p:nvPicPr>
        <p:blipFill>
          <a:blip r:embed="rId2"/>
          <a:stretch/>
        </p:blipFill>
        <p:spPr>
          <a:xfrm>
            <a:off x="1012680" y="5391000"/>
            <a:ext cx="3319560" cy="2505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A picture containing diagram&#10;&#10;Description automatically generated"/>
          <p:cNvPicPr/>
          <p:nvPr/>
        </p:nvPicPr>
        <p:blipFill>
          <a:blip r:embed="rId3"/>
          <a:stretch/>
        </p:blipFill>
        <p:spPr>
          <a:xfrm>
            <a:off x="4832280" y="5435640"/>
            <a:ext cx="3330720" cy="2504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Logo&#10;&#10;Description automatically generated with medium confidence"/>
          <p:cNvPicPr/>
          <p:nvPr/>
        </p:nvPicPr>
        <p:blipFill>
          <a:blip r:embed="rId4"/>
          <a:stretch/>
        </p:blipFill>
        <p:spPr>
          <a:xfrm>
            <a:off x="2928960" y="8964720"/>
            <a:ext cx="3238560" cy="2550960"/>
          </a:xfrm>
          <a:prstGeom prst="rect">
            <a:avLst/>
          </a:prstGeom>
          <a:ln w="0">
            <a:noFill/>
          </a:ln>
        </p:spPr>
      </p:pic>
      <p:sp>
        <p:nvSpPr>
          <p:cNvPr id="56" name="TextBox 7180"/>
          <p:cNvSpPr/>
          <p:nvPr/>
        </p:nvSpPr>
        <p:spPr>
          <a:xfrm>
            <a:off x="2455920" y="86328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9T16:55:49Z</dcterms:created>
  <dc:creator>Andrew</dc:creator>
  <dc:description/>
  <dc:language>en-US</dc:language>
  <cp:lastModifiedBy>Cobb, Andrew</cp:lastModifiedBy>
  <cp:lastPrinted>2021-10-13T12:23:20Z</cp:lastPrinted>
  <dcterms:modified xsi:type="dcterms:W3CDTF">2022-10-26T11:50:55Z</dcterms:modified>
  <cp:revision>548</cp:revision>
  <dc:subject/>
  <dc:title>Slide 1</dc:title>
</cp:coreProperties>
</file>