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0E60B-6A9D-43E5-83A8-15F4BE7F45E6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587600" y="100656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ekmuk Batang"/>
              </a:rPr>
              <a:t>Time of occurrence of remembered motor elements (n = 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Baekmuk Batang"/>
              </a:rPr>
              <a:t>IF THIS IMAGE HAS BEEN PROVIDED BY OR IS OWNED BY A THIRD PARTY, AS INDICATED IN THE CAPTION LINE, THEN FURTHER PERMISSION MAY BE NEEDED BEFORE ANY FURTHER USE. PLEASE CONTACT WILEY'S PERMISSIONS DEPARTMENT ON PERMISSIONS@WILEY.COM OR USE THE RIGHTSLINK SERVICE BY CLICKING ON THE 'REQUEST PERMISSIONS' LINK ACCOMPANYING THIS ARTICLE. WILEY OR AUTHOR OWNED IMAGES MAY BE USED FOR NON-COMMERCIAL PURPOSES, SUBJECT TO PROPER CITATION OF THE ARTICLE, AUTHOR, AND PUBLISH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360" cy="6858000"/>
          </a:xfrm>
          <a:prstGeom prst="rect">
            <a:avLst/>
          </a:prstGeom>
          <a:solidFill>
            <a:srgbClr val="0054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44360" cy="1198440"/>
          </a:xfrm>
          <a:prstGeom prst="rect">
            <a:avLst/>
          </a:prstGeom>
          <a:solidFill>
            <a:srgbClr val="ffce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60360" y="152280"/>
            <a:ext cx="71992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ich seizure elements do patients memorize? A comparison of history and seizure docum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0360" y="5940360"/>
            <a:ext cx="86407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54a6"/>
                </a:solidFill>
                <a:latin typeface="Arial"/>
              </a:rPr>
              <a:t>Epilepsia, Volume: 61, Issue: 7, Pages: 1365-1375, First published: 09 June 2020, DOI: (10.1111/epi.1655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8280" y="762120"/>
            <a:ext cx="5580000" cy="3809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