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 rot="16200000"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 rot="16200000"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10325C6F-8881-4952-AAA9-44F3A8B7FC8E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ＭＳ Ｐゴシック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 rot="16200000"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 rot="16200000"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4477AB49-BB9F-41DF-88A3-2C9B565EF0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</a:tabLst>
            </a:pPr>
            <a:fld id="{6840CDB4-FDD6-4076-B5A0-D32F859C91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 rot="16200000"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cfd5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0"/>
            <a:ext cx="91440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646262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2"/>
          <p:cNvSpPr/>
          <p:nvPr/>
        </p:nvSpPr>
        <p:spPr>
          <a:xfrm>
            <a:off x="2063880" y="103320"/>
            <a:ext cx="6791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STL promotes cell contractility and motility through kinase-independent signal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Placeholder 2"/>
          <p:cNvSpPr/>
          <p:nvPr/>
        </p:nvSpPr>
        <p:spPr>
          <a:xfrm>
            <a:off x="190440" y="1289160"/>
            <a:ext cx="86630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 Cell Biol. 2020;219(6). doi:10.1083/jcb.2019062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2"/>
          <p:cNvSpPr/>
          <p:nvPr/>
        </p:nvSpPr>
        <p:spPr>
          <a:xfrm>
            <a:off x="0" y="55753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STL regulates SRF activity independent of its kinase activity. (A) Quantification of SRF, VCL, and FOS mRNA levels relative to TATA-box binding protein (TBP) in siMASTL (72 h silencing) MCF10A cells (n = 2 biologically independent experiments, mean ± SD). (B) Western blot analysis of vinculin, paxillin, and MASTL protein levels in siControl and siMASTL MCF10A cells after 48 h of silencing. GAPDH was used as a loading control. (C) Quantification of vinculin levels in B after MASTL silencing. Protein levels are normalized to GAPDH (n = 3 individual experiments). (D) Relative SRF luciferase activity in siControl, siMASTL and siSRF (SRF-silenced) MCF10A cells following 48 h of silencing under serum-starved conditions and after stimulation with 20% serum (n = 3 individual experiments). (E) Relative SRF luciferase activity. MCF7 cells expressed EGFP control, EGFP-MASTL WT, and EGFP-MASTL G44S together with the SRF reporter 3D.Aluc and RLTK Renilla luciferase transfection control under serum-starved conditions and after stimulation with 20% serum (n = 4 individual experiments). Unpaired t test and mean ± SD is used in all graphs. See also Table S1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2257560" y="6438960"/>
            <a:ext cx="6886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 rot="-5400000">
            <a:noAutofit/>
          </a:bodyPr>
          <a:p>
            <a:pPr algn="r">
              <a:spcAft>
                <a:spcPts val="601"/>
              </a:spcAft>
              <a:tabLst>
                <a:tab algn="l" pos="0"/>
              </a:tabLst>
            </a:pPr>
            <a:r>
              <a:rPr b="1" lang="en-US" sz="1000" spc="-1" strike="noStrike">
                <a:solidFill>
                  <a:srgbClr val="2a2a2a"/>
                </a:solidFill>
                <a:latin typeface="Arial"/>
              </a:rPr>
              <a:t>Copyright © 2020 Rockefeller University Pres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160" y="182520"/>
            <a:ext cx="18810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New picture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114800" cy="30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e downloaded: 9/7/202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14:57:12Z</dcterms:created>
  <dc:creator/>
  <dc:description/>
  <dc:language>en-US</dc:language>
  <cp:lastModifiedBy>Daniel Gilroy</cp:lastModifiedBy>
  <dcterms:modified xsi:type="dcterms:W3CDTF">2020-09-07T04:52:15Z</dcterms:modified>
  <cp:revision>125</cp:revision>
  <dc:subject/>
  <dc:title>$$FGLB $$LG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Ids_UIVersion_1536">
    <vt:lpwstr>12</vt:lpwstr>
  </property>
  <property fmtid="{D5CDD505-2E9C-101B-9397-08002B2CF9AE}" pid="3" name="ContentTypeId">
    <vt:lpwstr>0x0101008689096C21F40A47A5647BDD51E306B0</vt:lpwstr>
  </property>
  <property fmtid="{D5CDD505-2E9C-101B-9397-08002B2CF9AE}" pid="4" name="_AdHocReviewCycleID">
    <vt:r8>1782370206</vt:r8>
  </property>
  <property fmtid="{D5CDD505-2E9C-101B-9397-08002B2CF9AE}" pid="5" name="_AuthorEmail">
    <vt:lpwstr>mark.seymour@oup.com</vt:lpwstr>
  </property>
  <property fmtid="{D5CDD505-2E9C-101B-9397-08002B2CF9AE}" pid="6" name="_AuthorEmailDisplayName">
    <vt:lpwstr>SEYMOUR, Mark</vt:lpwstr>
  </property>
  <property fmtid="{D5CDD505-2E9C-101B-9397-08002B2CF9AE}" pid="7" name="_EmailSubject">
    <vt:lpwstr>URGENT: Download to slide design</vt:lpwstr>
  </property>
  <property fmtid="{D5CDD505-2E9C-101B-9397-08002B2CF9AE}" pid="8" name="_NewReviewCycle">
    <vt:lpwstr/>
  </property>
</Properties>
</file>