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 rot="16200000"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 rot="16200000"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C446E866-CD0B-4C5E-A134-2770C001C576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ＭＳ Ｐゴシック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 rot="16200000"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 rot="16200000"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2F57CA9D-35D6-45E6-906B-2FDC19A0BB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</a:tabLst>
            </a:pPr>
            <a:fld id="{91771803-BDED-4FA0-98CF-13A97DA257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 rot="16200000"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cfd5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0"/>
            <a:ext cx="91440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646262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2"/>
          <p:cNvSpPr/>
          <p:nvPr/>
        </p:nvSpPr>
        <p:spPr>
          <a:xfrm>
            <a:off x="2063880" y="103320"/>
            <a:ext cx="6791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STL promotes cell contractility and motility through kinase-independent signal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Placeholder 2"/>
          <p:cNvSpPr/>
          <p:nvPr/>
        </p:nvSpPr>
        <p:spPr>
          <a:xfrm>
            <a:off x="190440" y="1289160"/>
            <a:ext cx="86630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 Cell Biol. 2020;219(6). doi:10.1083/jcb.2019062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2"/>
          <p:cNvSpPr/>
          <p:nvPr/>
        </p:nvSpPr>
        <p:spPr>
          <a:xfrm>
            <a:off x="0" y="55753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STL regulates cell spreading independently of focal adhesion size, integrin activity or cell cycle (related to Fig. 2).(A) Western blot analysis of MASTL, tubulin and β-actin in MCF10A, MCF7 and MDA-MB-231 cells. (B) Representative images of F-actin (Phalloidin-Atto) and DAPI staining in control (siControl) or MASTL-silenced (siMASTL; 48 h silencing) MCF7 cells plated on collagen for 2 h. Images were acquired on a 3i CSU-W1 spinning disk confocal. (C) Quantification of cell area based on F-actin staining of 45 cells (3 independent experiments) from B. (D and E) Quantification of the flow cytometry of total β1-integrin (P5D2; D) or active β1-integrin (12G10; E) in siControl and siMASTL (48 h) cells (n = 3 biologically independent experiments, mean ± SD, unpaired t test, MDA-MB-231). (F and G) Level of active β1 integrin (12G10) relative to total β1 integrin (K20) after MASTL#6 silencing (F; n = 6 independent experiments, mean ± SD, t test, MDA-MB-231) or after MASTL#7 silencing (G; n = 3 independent experiments, mean ± SD, unpaired t test). (H) Western blot analysis of MASTL and GAPDH in siControl and siMASTL (24, 48, or 72 h) MDA-MB-231 cells at different time points. (I) Quantification of the flow cytometry data (Fig. 2 I). Proportion of MDA-MB-231 cells in the G2 phase of the cell cycle (Watson model) after silencing of MASTL for 24, 48, and 72 h (n = 3 independent experiments [1 × #6, 2 × #7], mean ± SD, unpaired t test). See also Table S1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2257560" y="6438960"/>
            <a:ext cx="6886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 rot="-5400000">
            <a:noAutofit/>
          </a:bodyPr>
          <a:p>
            <a:pPr algn="r">
              <a:spcAft>
                <a:spcPts val="601"/>
              </a:spcAft>
              <a:tabLst>
                <a:tab algn="l" pos="0"/>
              </a:tabLst>
            </a:pPr>
            <a:r>
              <a:rPr b="1" lang="en-US" sz="1000" spc="-1" strike="noStrike">
                <a:solidFill>
                  <a:srgbClr val="2a2a2a"/>
                </a:solidFill>
                <a:latin typeface="Arial"/>
              </a:rPr>
              <a:t>Copyright © 2020 Rockefeller University Pres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160" y="182520"/>
            <a:ext cx="18810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New picture" descr=""/>
          <p:cNvPicPr/>
          <p:nvPr/>
        </p:nvPicPr>
        <p:blipFill>
          <a:blip r:embed="rId2"/>
          <a:stretch/>
        </p:blipFill>
        <p:spPr>
          <a:xfrm>
            <a:off x="3213000" y="2057400"/>
            <a:ext cx="271620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e downloaded: 9/7/202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14:57:12Z</dcterms:created>
  <dc:creator/>
  <dc:description/>
  <dc:language>en-US</dc:language>
  <cp:lastModifiedBy>Daniel Gilroy</cp:lastModifiedBy>
  <dcterms:modified xsi:type="dcterms:W3CDTF">2020-09-07T04:51:08Z</dcterms:modified>
  <cp:revision>125</cp:revision>
  <dc:subject/>
  <dc:title>$$FGLB $$LG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Ids_UIVersion_1536">
    <vt:lpwstr>12</vt:lpwstr>
  </property>
  <property fmtid="{D5CDD505-2E9C-101B-9397-08002B2CF9AE}" pid="3" name="ContentTypeId">
    <vt:lpwstr>0x0101008689096C21F40A47A5647BDD51E306B0</vt:lpwstr>
  </property>
  <property fmtid="{D5CDD505-2E9C-101B-9397-08002B2CF9AE}" pid="4" name="_AdHocReviewCycleID">
    <vt:r8>1782370206</vt:r8>
  </property>
  <property fmtid="{D5CDD505-2E9C-101B-9397-08002B2CF9AE}" pid="5" name="_AuthorEmail">
    <vt:lpwstr>mark.seymour@oup.com</vt:lpwstr>
  </property>
  <property fmtid="{D5CDD505-2E9C-101B-9397-08002B2CF9AE}" pid="6" name="_AuthorEmailDisplayName">
    <vt:lpwstr>SEYMOUR, Mark</vt:lpwstr>
  </property>
  <property fmtid="{D5CDD505-2E9C-101B-9397-08002B2CF9AE}" pid="7" name="_EmailSubject">
    <vt:lpwstr>URGENT: Download to slide design</vt:lpwstr>
  </property>
  <property fmtid="{D5CDD505-2E9C-101B-9397-08002B2CF9AE}" pid="8" name="_NewReviewCycle">
    <vt:lpwstr/>
  </property>
</Properties>
</file>