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 rot="16200000"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 rot="16200000"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E5545DC3-3236-40A9-9C36-58CBF2B583FB}" type="datetime">
              <a:rPr b="1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ＭＳ Ｐゴシック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 rot="16200000"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 rot="16200000"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 rot="16200000"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72C001F3-E6AD-44AA-9EC8-ABF33805F02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</a:tabLst>
            </a:pPr>
            <a:fld id="{0CA76B5C-6E96-4882-A940-782888973A4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 rot="16200000"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6480">
            <a:solidFill>
              <a:srgbClr val="cfd5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3"/>
          <p:cNvSpPr/>
          <p:nvPr/>
        </p:nvSpPr>
        <p:spPr>
          <a:xfrm>
            <a:off x="0" y="0"/>
            <a:ext cx="9144000" cy="1135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646262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Placeholder 2"/>
          <p:cNvSpPr/>
          <p:nvPr/>
        </p:nvSpPr>
        <p:spPr>
          <a:xfrm>
            <a:off x="2063880" y="103320"/>
            <a:ext cx="67910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6336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rom: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MASTL promotes cell contractility and motility through kinase-independent signaling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Placeholder 2"/>
          <p:cNvSpPr/>
          <p:nvPr/>
        </p:nvSpPr>
        <p:spPr>
          <a:xfrm>
            <a:off x="190440" y="1289160"/>
            <a:ext cx="866304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 Cell Biol. 2020;219(6). doi:10.1083/jcb.20190620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Placeholder 2"/>
          <p:cNvSpPr/>
          <p:nvPr/>
        </p:nvSpPr>
        <p:spPr>
          <a:xfrm>
            <a:off x="0" y="557532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0" tIns="0" bIns="6336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STL supports expression of cell movement– and actin cytoskeleton–related genes. (A) Venn diagram of differentially expressed transcripts (FDR &lt; 0.05) measured with Illumina HT-12 at 24 h and 48 h after MASTL silencing in MDA-MB-231 cells. (B) Migration- and invasion-associated transcripts affected at RNA level after MASTL silencing according to Ingenuity Pathway Analysis. (C) A density scatterplot of SILAC proteome data displaying log2 of median protein ratios (siMASTL compared with siControl MDA-MB-231 cells) and total protein intensity. Each dot represents a protein. The color scale of the data point density is indicated on the right. Highlighted black circles represent significantly regulated proteins according to the significance B test. (D) List of differentially regulated hits identified in both the transcriptome and the total proteome datasets (shared identification). Blue, down-regulated hits; red, up-regulated hits. See also Fig. S3 and Table S2 and Table S3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0" y="5305320"/>
            <a:ext cx="9144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0" tIns="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gen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3"/>
          <p:cNvSpPr/>
          <p:nvPr/>
        </p:nvSpPr>
        <p:spPr>
          <a:xfrm>
            <a:off x="2257560" y="6438960"/>
            <a:ext cx="6886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 rot="-5400000">
            <a:noAutofit/>
          </a:bodyPr>
          <a:p>
            <a:pPr algn="r">
              <a:spcAft>
                <a:spcPts val="601"/>
              </a:spcAft>
              <a:tabLst>
                <a:tab algn="l" pos="0"/>
              </a:tabLst>
            </a:pPr>
            <a:r>
              <a:rPr b="1" lang="en-US" sz="1000" spc="-1" strike="noStrike">
                <a:solidFill>
                  <a:srgbClr val="2a2a2a"/>
                </a:solidFill>
                <a:latin typeface="Arial"/>
              </a:rPr>
              <a:t>Copyright © 2020 Rockefeller University Pres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92160" y="182520"/>
            <a:ext cx="188100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New picture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4114800" cy="259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e downloaded: 9/7/202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1T14:57:12Z</dcterms:created>
  <dc:creator/>
  <dc:description/>
  <dc:language>en-US</dc:language>
  <cp:lastModifiedBy>Daniel Gilroy</cp:lastModifiedBy>
  <dcterms:modified xsi:type="dcterms:W3CDTF">2020-09-07T04:51:42Z</dcterms:modified>
  <cp:revision>125</cp:revision>
  <dc:subject/>
  <dc:title>$$FGLB $$LG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horIds_UIVersion_1536">
    <vt:lpwstr>12</vt:lpwstr>
  </property>
  <property fmtid="{D5CDD505-2E9C-101B-9397-08002B2CF9AE}" pid="3" name="ContentTypeId">
    <vt:lpwstr>0x0101008689096C21F40A47A5647BDD51E306B0</vt:lpwstr>
  </property>
  <property fmtid="{D5CDD505-2E9C-101B-9397-08002B2CF9AE}" pid="4" name="_AdHocReviewCycleID">
    <vt:r8>1782370206</vt:r8>
  </property>
  <property fmtid="{D5CDD505-2E9C-101B-9397-08002B2CF9AE}" pid="5" name="_AuthorEmail">
    <vt:lpwstr>mark.seymour@oup.com</vt:lpwstr>
  </property>
  <property fmtid="{D5CDD505-2E9C-101B-9397-08002B2CF9AE}" pid="6" name="_AuthorEmailDisplayName">
    <vt:lpwstr>SEYMOUR, Mark</vt:lpwstr>
  </property>
  <property fmtid="{D5CDD505-2E9C-101B-9397-08002B2CF9AE}" pid="7" name="_EmailSubject">
    <vt:lpwstr>URGENT: Download to slide design</vt:lpwstr>
  </property>
  <property fmtid="{D5CDD505-2E9C-101B-9397-08002B2CF9AE}" pid="8" name="_NewReviewCycle">
    <vt:lpwstr/>
  </property>
</Properties>
</file>